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media/image5.gif" ContentType="image/gif"/>
  <Override PartName="/ppt/media/image8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D3569-99CC-43EA-8385-A0807A049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AFEFB-8A91-4D5D-9E65-1450D2D3F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A9B2C-81DA-4666-904B-05371ECCF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AE9D0-8B0B-4678-8B66-B73A1DCDA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352FE-52AB-4BA9-9E99-DE0107078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92289-40D6-46BE-898B-0F34AEAB4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75EFF-7E93-47EC-82E2-5B897D4B2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5BFE6-4A85-46AC-822A-6BFF55B33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489A3-7E4D-451E-BAEB-93F725106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2DDE4-C731-4C46-B12F-C6235C3FD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3C168-3BD7-4DDA-A572-60001ACF2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65A23-754C-4746-821F-B405F902E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E9747-0042-4485-9539-619989ACAA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audio" Target="file:///tmp/home/.config/libreoffice/4/user/gallery/MSj00750290000%5B1%5D.wav" TargetMode="External"/><Relationship Id="rId3" Type="http://schemas.microsoft.com/office/2007/relationships/media" Target="file:///tmp/home/.config/libreoffice/4/user/gallery/MSj00750290000%5B1%5D.wav" TargetMode="External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wmf"/><Relationship Id="rId7" Type="http://schemas.openxmlformats.org/officeDocument/2006/relationships/image" Target="../media/image5.gif"/><Relationship Id="rId8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volv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ition: to be centered around a particular th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nonyms rota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tonyms: pau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llable: re volv e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e word: revol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lection: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553080" y="914400"/>
            <a:ext cx="1793880" cy="19810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3886200" y="32767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4343400" y="24382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6"/>
          <a:stretch/>
        </p:blipFill>
        <p:spPr>
          <a:xfrm>
            <a:off x="6477120" y="4191120"/>
            <a:ext cx="2361960" cy="19191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7"/>
          <a:stretch/>
        </p:blipFill>
        <p:spPr>
          <a:xfrm>
            <a:off x="4876920" y="274320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767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4"/>
                </p:tgtEl>
              </p:cMediaNode>
            </p:audio>
            <p:seq>
              <p:cTn id="7" restart="whenNotActive" nodeType="interactiveSeq" fill="hold">
                <p:stCondLst>
                  <p:cond evt="onClick">
                    <p:tgtEl>
                      <p:spTgt spid="45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45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2767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002f"/>
            </a:gs>
            <a:gs pos="100000">
              <a:srgbClr val="ff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ded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ition: making holy ag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nonyms: ag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tonyms: give 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llable: re ded ca 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e word: dedic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lection: 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543800" y="1371600"/>
            <a:ext cx="1376280" cy="18097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6324480" y="4572000"/>
            <a:ext cx="2249640" cy="18730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5334120" y="2286000"/>
            <a:ext cx="1701720" cy="10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oosevelt2</cp:lastModifiedBy>
  <dcterms:modified xsi:type="dcterms:W3CDTF">2009-01-14T18:29:58Z</dcterms:modified>
  <cp:revision>2</cp:revision>
  <dc:subject/>
  <dc:title>PowerPoint Presentation</dc:title>
</cp:coreProperties>
</file>